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13.png" ContentType="image/png"/>
  <Override PartName="/ppt/media/image5.gif" ContentType="image/gif"/>
  <Override PartName="/ppt/media/image9.png" ContentType="image/png"/>
  <Override PartName="/ppt/media/image6.gif" ContentType="image/gif"/>
  <Override PartName="/ppt/media/image7.jpeg" ContentType="image/jpeg"/>
  <Override PartName="/ppt/media/image11.png" ContentType="image/png"/>
  <Override PartName="/ppt/media/image8.gif" ContentType="image/gif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1F78-7AAC-4B67-958D-C77B5AD96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07A4-32B3-469E-9063-75AFC5EC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DFD1-0312-45DA-A402-807111EF0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C066-2E5B-4238-825F-0880FFC06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8DDD2-742D-43DF-906A-6C03CC662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8D92-1D52-445D-958C-354EAC8F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B160-C26B-4488-99C5-56646FC9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24020-74BA-4447-9798-A1FC8909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D6AE-28C9-45FF-BE9D-AADAB33A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3D25-9F44-41A0-9CE0-9047C21D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02ACB-5551-42E8-B0CA-15EA338C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8B72-1835-4672-A625-E06C419E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3770-25B2-4D05-B127-561A411A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88E2-9505-4645-8DF9-5786C354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4EAAA-79D1-4884-84FC-1CF099A4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36E9-DB03-4CE0-B3A2-4214B2EBC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E051-F01A-47F4-AC06-D9FD07C69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E06C6-A38A-4F9E-A843-C0815A994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5FDE2-3834-4EF3-8F1F-90FCDDE6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8D898-8FD3-4564-8F38-194BDB5F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D0CC3-3AD9-4F6D-901A-996EBC27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7845F-08B3-4113-8AB5-91F4E919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BB4D-6748-44D0-9D9A-24444D55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B8C9C-AFC9-439B-BC22-6598AB50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A5B44-AB3C-429C-8466-E47610AA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ABB26-E072-4A77-9251-1DD8178F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A2570-1718-4D46-B0D3-7403A0F2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D0E68-638C-4A08-83D3-0BBA5AE7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0FAC7-811E-440E-84AA-C80BA70DB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46C3C-40AD-46D9-88D6-74A034B18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24CBE-C985-4737-AEFA-2AFB99207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F8A73-0B78-4A85-B95D-00A12CD3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2380C-5821-49C6-AD24-2682FAE1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FEC9-2EFD-4A26-9193-9547DFCF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1D52A-ABE6-407B-B415-7978B7E5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B1FF7-7D18-4A58-B16C-67C057FB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06597-6D1E-4EC9-8956-9B622843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8320B-8098-458A-9FC5-4E3FB182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64DBA-BEFC-4EE5-899E-2E688D15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CEB06-6EF8-4B23-9DEA-34658D32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0DB99-CA4E-4438-A20F-7F4CCF42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4F819-11C8-4CF5-AB5C-3EE34187F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25986-1073-4AFE-A3D3-CA5EF9625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3AF2-DE4A-44A0-80C4-8466D8C1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2777-1BF1-4F31-88AF-7CD6EACD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BD5A-AEBE-4DC2-A8C4-09751228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505C-F81C-4EA2-AC18-B98B5A66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ACCF-6248-4193-AF0E-39C511D9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F432-4F6C-40F1-85EC-FB09E3D9EB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D769-BED8-4BBD-9270-A56A388E92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99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95FF-192E-4359-B987-C00FE57F73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99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6E76-96F9-402B-8033-4E7290BCE4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500" spc="-1" strike="noStrike">
                <a:solidFill>
                  <a:srgbClr val="ffffff"/>
                </a:solidFill>
                <a:latin typeface="Arial"/>
              </a:rPr>
              <a:t>ИСТРАЖИВАЊЕ</a:t>
            </a:r>
            <a:br>
              <a:rPr sz="4500"/>
            </a:br>
            <a:br>
              <a:rPr sz="600"/>
            </a:br>
            <a:r>
              <a:rPr b="0" lang="sr-CS" sz="4500" spc="-1" strike="noStrike">
                <a:solidFill>
                  <a:srgbClr val="ffffff"/>
                </a:solidFill>
                <a:latin typeface="Arial"/>
              </a:rPr>
              <a:t>ЕПИДЕМИЈЕ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ФАКУЛТЕТ МЕДИЦИНСКИХ</a:t>
            </a:r>
            <a:r>
              <a:rPr b="0" lang="sr-C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НАУ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219560" y="279360"/>
            <a:ext cx="70488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Arial"/>
              </a:rPr>
              <a:t>О</a:t>
            </a:r>
            <a:r>
              <a:rPr b="0" lang="pl-PL" sz="3200" spc="-1" strike="noStrike">
                <a:solidFill>
                  <a:srgbClr val="ffff00"/>
                </a:solidFill>
                <a:latin typeface="Arial"/>
              </a:rPr>
              <a:t>сновн</a:t>
            </a:r>
            <a:r>
              <a:rPr b="0" lang="sr-CS" sz="3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pl-PL" sz="3000" spc="-1" strike="noStrike">
                <a:solidFill>
                  <a:srgbClr val="ffff00"/>
                </a:solidFill>
                <a:latin typeface="Arial"/>
              </a:rPr>
              <a:t> епидемиолошк</a:t>
            </a:r>
            <a:r>
              <a:rPr b="0" lang="sr-CS" sz="3000" spc="-1" strike="noStrike">
                <a:solidFill>
                  <a:srgbClr val="ffff00"/>
                </a:solidFill>
                <a:latin typeface="Arial"/>
              </a:rPr>
              <a:t>и </a:t>
            </a:r>
            <a:r>
              <a:rPr b="0" lang="pl-PL" sz="3000" spc="-1" strike="noStrike">
                <a:solidFill>
                  <a:srgbClr val="ffff00"/>
                </a:solidFill>
                <a:latin typeface="Arial"/>
              </a:rPr>
              <a:t>пода</a:t>
            </a:r>
            <a:r>
              <a:rPr b="0" lang="sr-CS" sz="3000" spc="-1" strike="noStrike">
                <a:solidFill>
                  <a:srgbClr val="ffff00"/>
                </a:solidFill>
                <a:latin typeface="Arial"/>
              </a:rPr>
              <a:t>ци</a:t>
            </a:r>
            <a:r>
              <a:rPr b="0" lang="sr-Latn-CS" sz="28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Од</a:t>
            </a:r>
            <a:r>
              <a:rPr b="0" lang="pl-PL" sz="2200" spc="-1" strike="noStrike">
                <a:solidFill>
                  <a:srgbClr val="ccff33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оболелих прикупити</a:t>
            </a:r>
            <a:r>
              <a:rPr b="0" lang="pl-PL" sz="2200" spc="-1" strike="noStrike">
                <a:solidFill>
                  <a:srgbClr val="ccff33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ffff00"/>
                </a:solidFill>
                <a:latin typeface="Arial"/>
              </a:rPr>
              <a:t>основне</a:t>
            </a:r>
            <a:r>
              <a:rPr b="0" lang="pl-PL" sz="2200" spc="-1" strike="noStrike">
                <a:solidFill>
                  <a:srgbClr val="ffff00"/>
                </a:solidFill>
                <a:latin typeface="Arial"/>
              </a:rPr>
              <a:t> епидемиолошке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ffff00"/>
                </a:solidFill>
                <a:latin typeface="Arial"/>
              </a:rPr>
              <a:t>податк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Први дан обољења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→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на основу познавања дужине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инкубације приближно одредити време излагања агенс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Информације о кретању болесника, контактима које је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имао, особама са сличним симптомима у његовој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околини, догађајима и понашању који су заједнички за све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њих и сл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Вешто вођен разговор помаже у постављању </a:t>
            </a:r>
            <a:r>
              <a:rPr b="0" lang="sr-Latn-CS" sz="2400" spc="-1" strike="noStrike">
                <a:solidFill>
                  <a:srgbClr val="66ff33"/>
                </a:solidFill>
                <a:latin typeface="Arial"/>
              </a:rPr>
              <a:t>ХИПОТЕЗЕ</a:t>
            </a:r>
            <a:r>
              <a:rPr b="0" lang="sr-Latn-CS" sz="2200" spc="-1" strike="noStrike">
                <a:solidFill>
                  <a:srgbClr val="ff99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66ff33"/>
                </a:solidFill>
                <a:latin typeface="Arial"/>
              </a:rPr>
              <a:t>о узроку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66ff33"/>
                </a:solidFill>
                <a:latin typeface="Arial"/>
              </a:rPr>
              <a:t>извору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sr-Latn-CS" sz="2400" spc="-1" strike="noStrike">
                <a:solidFill>
                  <a:srgbClr val="66ff33"/>
                </a:solidFill>
                <a:latin typeface="Arial"/>
              </a:rPr>
              <a:t>путу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ширења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болести, као и процени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угрожене популациј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905120" y="1125360"/>
            <a:ext cx="5333760" cy="2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84040" y="274320"/>
            <a:ext cx="839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09480" indent="-60948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ДЕФИНИСАТИ БРОЈИЛАЦ ("СЛУЧАЈЕВЕ")</a:t>
            </a:r>
            <a:br>
              <a:rPr sz="2000"/>
            </a:br>
            <a:r>
              <a:rPr b="1" lang="sr-CS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83680" y="2103480"/>
            <a:ext cx="869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Формулисање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тзв.</a:t>
            </a:r>
            <a:r>
              <a:rPr b="1" lang="pl-P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800" spc="-1" strike="noStrike">
                <a:solidFill>
                  <a:srgbClr val="ccff33"/>
                </a:solidFill>
                <a:latin typeface="Arial"/>
              </a:rPr>
              <a:t>радне или операционал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ff33"/>
                </a:solidFill>
                <a:latin typeface="Arial"/>
              </a:rPr>
              <a:t>дефиниције "случаја"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(обољења, поремећаја здравља)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ff3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66ff33"/>
                </a:solidFill>
                <a:latin typeface="Arial"/>
              </a:rPr>
              <a:t>Низ специфичних критеријума на основу којих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ће с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одлучити да ли нека особа има поремећај здравља који се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испитуј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ff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Заснива се на клиничком налазу, карактеристикама самих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оболелих и информацијама о месту и времену јављањ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епидемиј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ДЕФИНИСАТИ БРОЈИЛАЦ ("СЛУЧАЈЕВЕ"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Идеално </a:t>
            </a:r>
            <a:r>
              <a:rPr b="0" lang="sr-Latn-CS" sz="2600" spc="-1" strike="noStrike">
                <a:solidFill>
                  <a:srgbClr val="66ff33"/>
                </a:solidFill>
                <a:latin typeface="Arial"/>
              </a:rPr>
              <a:t>-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таква да се помоћу ње обухвате скоро сви оболе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ff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На минимум сведе могућност појаве тзв. лажно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позитивних случајева (особа која задовољава критеријум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дефиниције случаја, али у ствари нема обољење)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440" y="512280"/>
            <a:ext cx="823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09480" indent="-609480">
              <a:buClr>
                <a:srgbClr val="ffffff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ДЕФИНИСАТИ ИМЕНИЛАЦ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sr-CS" sz="2800" spc="-1" strike="noStrike">
                <a:solidFill>
                  <a:srgbClr val="ff3300"/>
                </a:solidFill>
                <a:latin typeface="Arial"/>
              </a:rPr>
              <a:t> која је</a:t>
            </a:r>
            <a:br>
              <a:rPr sz="2800"/>
            </a:br>
            <a:r>
              <a:rPr b="1" lang="sr-CS" sz="2800" spc="-1" strike="noStrike">
                <a:solidFill>
                  <a:srgbClr val="ff3300"/>
                </a:solidFill>
                <a:latin typeface="Arial"/>
              </a:rPr>
              <a:t>популација изложена ризику оболевања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41000" y="2054160"/>
            <a:ext cx="822636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адници у фабрици, ђаци у школи или абонен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неког ресторана где се епидемија јави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Некада је тешко утврдити ко све припада популациј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изложеној ризику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Епидемије се одигравају на ширем географск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подручју и обухватају више група људи које немај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лако уочљиве исте карактеристи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Прибавити детаљниј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информације о оболелима које могу дати идеју о томе које су особе изложене ризи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68000" y="1469880"/>
            <a:ext cx="822636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У епидемији је потребно израчунати </a:t>
            </a:r>
            <a:r>
              <a:rPr b="0" lang="pl-PL" sz="2200" spc="-1" strike="noStrike">
                <a:solidFill>
                  <a:srgbClr val="66ff33"/>
                </a:solidFill>
                <a:latin typeface="Arial"/>
              </a:rPr>
              <a:t>"</a:t>
            </a:r>
            <a:r>
              <a:rPr b="0" lang="pl-PL" sz="2200" spc="-1" strike="noStrike">
                <a:solidFill>
                  <a:srgbClr val="ccff33"/>
                </a:solidFill>
                <a:latin typeface="Arial"/>
              </a:rPr>
              <a:t>стопу</a:t>
            </a:r>
            <a:r>
              <a:rPr b="0" lang="pl-PL" sz="2200" spc="-1" strike="noStrike">
                <a:solidFill>
                  <a:srgbClr val="66ff33"/>
                </a:solidFill>
                <a:latin typeface="Arial"/>
              </a:rPr>
              <a:t>“</a:t>
            </a:r>
            <a:r>
              <a:rPr b="0" lang="sr-CS" sz="2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ccff33"/>
                </a:solidFill>
                <a:latin typeface="Arial"/>
              </a:rPr>
              <a:t>јављања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и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66ff33"/>
                </a:solidFill>
                <a:latin typeface="Arial"/>
              </a:rPr>
              <a:t>"</a:t>
            </a:r>
            <a:r>
              <a:rPr b="0" lang="pl-PL" sz="2200" spc="-1" strike="noStrike">
                <a:solidFill>
                  <a:srgbClr val="ccff33"/>
                </a:solidFill>
                <a:latin typeface="Arial"/>
              </a:rPr>
              <a:t>стопу</a:t>
            </a:r>
            <a:r>
              <a:rPr b="0" lang="pl-PL" sz="2200" spc="-1" strike="noStrike">
                <a:solidFill>
                  <a:srgbClr val="66ff33"/>
                </a:solidFill>
                <a:latin typeface="Arial"/>
              </a:rPr>
              <a:t>"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ccff33"/>
                </a:solidFill>
                <a:latin typeface="Arial"/>
              </a:rPr>
              <a:t>секундарног јављањ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1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Б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рој инфицираних или оболелих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00"/>
                </a:solidFill>
                <a:latin typeface="Arial"/>
              </a:rPr>
              <a:t>СТОПА "ЈАВЉАЊА"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 = —————————————————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П</a:t>
            </a:r>
            <a:r>
              <a:rPr b="0" lang="pl-PL" sz="2200" spc="-1" strike="noStrike">
                <a:solidFill>
                  <a:srgbClr val="ffff00"/>
                </a:solidFill>
                <a:latin typeface="Arial"/>
              </a:rPr>
              <a:t>опулација (на почетку епидемије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Б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рој новоинфицираних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Arial"/>
              </a:rPr>
              <a:t>СТОПА СЕКУНДАРНОГ "ЈАВЉАЊА"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 =</a:t>
            </a:r>
            <a:r>
              <a:rPr b="1" lang="sr-C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———————————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Б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рој изложених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осетљивих особ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55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89120" y="743040"/>
            <a:ext cx="722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00"/>
                </a:solidFill>
                <a:latin typeface="Arial"/>
              </a:rPr>
              <a:t>ИЗРАЧУНАТИ СТОПЕ ЈАВЉАЊ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Arial"/>
              </a:rPr>
              <a:t>"Стопа" јаваљањ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205092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"Стопа" јаваљања је пропорција и представља однос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броја оболелих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или инфицираних особа и популациј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изложене ризи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1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Б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рој инфицираних или оболелих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00"/>
                </a:solidFill>
                <a:latin typeface="Arial"/>
              </a:rPr>
              <a:t>СТОПА "ЈАВЉАЊА"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 = —————————————————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П</a:t>
            </a:r>
            <a:r>
              <a:rPr b="0" lang="pl-PL" sz="2200" spc="-1" strike="noStrike">
                <a:solidFill>
                  <a:srgbClr val="ffff00"/>
                </a:solidFill>
                <a:latin typeface="Arial"/>
              </a:rPr>
              <a:t>опулација (на почетку епидемије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Arial"/>
              </a:rPr>
              <a:t>"Стопа" секундарног јављањ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5400" y="206388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топа" јављања код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осетљивих особа изложених примарним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"случајевима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Б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рој новоинфицираних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Arial"/>
              </a:rPr>
              <a:t>СТОПА СЕКУНДАРНОГ "ЈАВЉАЊА"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 =</a:t>
            </a:r>
            <a:r>
              <a:rPr b="1" lang="sr-C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———————————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Б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рој изложених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осетљивих особ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Из бројиоца и имениоца искључени су они који су већ болесн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или зараже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00"/>
                </a:solidFill>
                <a:latin typeface="Arial"/>
              </a:rPr>
              <a:t>ИСПИТАТИ РАСПОДЕЛУ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4000" spc="-1" strike="noStrike">
                <a:solidFill>
                  <a:srgbClr val="ffff00"/>
                </a:solidFill>
                <a:latin typeface="Arial"/>
              </a:rPr>
              <a:t>ОБОЛЕЛИХ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у односу 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66ff33"/>
                </a:solidFill>
                <a:latin typeface="Arial"/>
              </a:rPr>
              <a:t>А.</a:t>
            </a:r>
            <a:r>
              <a:rPr b="0" lang="sr-Latn-CS" sz="2800" spc="-1" strike="noStrike">
                <a:solidFill>
                  <a:srgbClr val="66ff33"/>
                </a:solidFill>
                <a:latin typeface="Arial"/>
              </a:rPr>
              <a:t>Врем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66ff33"/>
                </a:solidFill>
                <a:latin typeface="Arial"/>
              </a:rPr>
              <a:t>Б.</a:t>
            </a:r>
            <a:r>
              <a:rPr b="0" lang="sr-Latn-CS" sz="2800" spc="-1" strike="noStrike">
                <a:solidFill>
                  <a:srgbClr val="66ff33"/>
                </a:solidFill>
                <a:latin typeface="Arial"/>
              </a:rPr>
              <a:t>Мест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66ff33"/>
                </a:solidFill>
                <a:latin typeface="Arial"/>
              </a:rPr>
              <a:t>В.</a:t>
            </a:r>
            <a:r>
              <a:rPr b="0" lang="sr-Latn-CS" sz="2800" spc="-1" strike="noStrike">
                <a:solidFill>
                  <a:srgbClr val="66ff33"/>
                </a:solidFill>
                <a:latin typeface="Arial"/>
              </a:rPr>
              <a:t>Особе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сагледати ризик у подгрупа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угрожене популације у односу 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демографске карактеристик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пол,узраст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место боравка,занимање,социјалну груп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432320" y="433440"/>
            <a:ext cx="4333680" cy="1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9440" y="725400"/>
            <a:ext cx="822636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ИСПИТАТИ РАСПОДЕЛУ</a:t>
            </a:r>
            <a:r>
              <a:rPr b="0" lang="sr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ОБОЛЕЛИХ</a:t>
            </a:r>
            <a:br>
              <a:rPr sz="18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9440" y="2316240"/>
            <a:ext cx="82263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00"/>
                </a:solidFill>
                <a:latin typeface="Arial"/>
              </a:rPr>
              <a:t>Д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ескриптивно епидемиоло</a:t>
            </a:r>
            <a:r>
              <a:rPr b="0" lang="sr-Latn-CS" sz="3000" spc="-1" strike="noStrike">
                <a:solidFill>
                  <a:srgbClr val="ffff00"/>
                </a:solidFill>
                <a:latin typeface="Arial"/>
              </a:rPr>
              <a:t>ш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к</a:t>
            </a:r>
            <a:r>
              <a:rPr b="0" lang="sr-Latn-CS" sz="3000" spc="-1" strike="noStrike">
                <a:solidFill>
                  <a:srgbClr val="ffff00"/>
                </a:solidFill>
                <a:latin typeface="Arial"/>
              </a:rPr>
              <a:t>а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обрад</a:t>
            </a:r>
            <a:r>
              <a:rPr b="0" lang="sr-Latn-CS" sz="3000" spc="-1" strike="noStrike">
                <a:solidFill>
                  <a:srgbClr val="ffff00"/>
                </a:solidFill>
                <a:latin typeface="Arial"/>
              </a:rPr>
              <a:t>а</a:t>
            </a:r>
            <a:r>
              <a:rPr b="0" lang="sr-CS" sz="3000" spc="-1" strike="noStrike">
                <a:solidFill>
                  <a:srgbClr val="ffff00"/>
                </a:solidFill>
                <a:latin typeface="Arial"/>
              </a:rPr>
              <a:t>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акон прикупљања података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више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пута током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истраживања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епидемиј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905120" y="1125360"/>
            <a:ext cx="5333760" cy="2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36600" y="313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Arial"/>
              </a:rPr>
              <a:t>А. 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РАСПОДЕЛ</a:t>
            </a:r>
            <a:r>
              <a:rPr b="0" lang="sr-CS" sz="3200" spc="-1" strike="noStrike">
                <a:solidFill>
                  <a:srgbClr val="ffff00"/>
                </a:solidFill>
                <a:latin typeface="Arial"/>
              </a:rPr>
              <a:t>А 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ОБОЛЕЛИХ</a:t>
            </a:r>
            <a:r>
              <a:rPr b="0" lang="sr-CS" sz="3200" spc="-1" strike="noStrike">
                <a:solidFill>
                  <a:srgbClr val="ffff00"/>
                </a:solidFill>
                <a:latin typeface="Arial"/>
              </a:rPr>
              <a:t> У ОДНОСУ НА  </a:t>
            </a:r>
            <a:r>
              <a:rPr b="1" lang="sr-CS" sz="3200" spc="-1" strike="noStrike" u="sng">
                <a:solidFill>
                  <a:srgbClr val="ffff00"/>
                </a:solidFill>
                <a:uFillTx/>
                <a:latin typeface="Arial"/>
              </a:rPr>
              <a:t>ВРЕМ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42440" y="190512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За </a:t>
            </a:r>
            <a:r>
              <a:rPr b="0" lang="pl-PL" sz="2600" spc="-1" strike="noStrike">
                <a:solidFill>
                  <a:srgbClr val="66ff33"/>
                </a:solidFill>
                <a:latin typeface="Arial"/>
              </a:rPr>
              <a:t>графички приказ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тока епидемије најчешће с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користи </a:t>
            </a:r>
            <a:r>
              <a:rPr b="0" lang="pl-PL" sz="2600" spc="-1" strike="noStrike">
                <a:solidFill>
                  <a:srgbClr val="66ff33"/>
                </a:solidFill>
                <a:latin typeface="Arial"/>
              </a:rPr>
              <a:t>стубичасти дијаграм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у коме је свак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оболела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особа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 представљена једним 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квадратићем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На апсцису (x осу) уноси се одговарајући временск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период у коме се одиграла епидемија (по недељама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данима, сатима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На ординату (y осу) </a:t>
            </a:r>
            <a:r>
              <a:rPr b="0" lang="sr-Latn-CS" sz="2200" spc="-1" strike="noStrike">
                <a:solidFill>
                  <a:srgbClr val="ccff33"/>
                </a:solidFill>
                <a:latin typeface="Arial"/>
              </a:rPr>
              <a:t>→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број оболелих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314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1936800"/>
            <a:ext cx="7631280" cy="41925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Болести заразне или незаразне етиологије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Састоји се од утврђивања да је епидемиј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заист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настала,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одређив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а ризичне популације,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извора, пута ширења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узроч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обољ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а 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предузимања адекватн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противепидемијских м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sr-C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sr-C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ff3300"/>
                </a:solidFill>
                <a:latin typeface="Arial"/>
              </a:rPr>
              <a:t>Циљано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→ прилагодити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условим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и приликама н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терен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07960" y="20638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507960" y="29322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2405160" y="1538280"/>
            <a:ext cx="4333680" cy="162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6516720" y="166680"/>
            <a:ext cx="942840" cy="6858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53440" y="77760"/>
            <a:ext cx="60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3300"/>
                </a:solidFill>
                <a:latin typeface="Arial"/>
              </a:rPr>
              <a:t>Истраживање епидемиј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477720" y="3745080"/>
            <a:ext cx="20574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96640" y="458280"/>
            <a:ext cx="884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Добијена </a:t>
            </a:r>
            <a:r>
              <a:rPr b="0" lang="pl-PL" sz="4000" spc="-1" strike="noStrike">
                <a:solidFill>
                  <a:srgbClr val="66ff33"/>
                </a:solidFill>
                <a:latin typeface="Arial"/>
              </a:rPr>
              <a:t>епидемијска крива</a:t>
            </a: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 служи з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11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1480" indent="-411480">
              <a:lnSpc>
                <a:spcPct val="90000"/>
              </a:lnSpc>
              <a:spcBef>
                <a:spcPts val="550"/>
              </a:spcBef>
              <a:buClr>
                <a:srgbClr val="66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Оријентацију о извору и путу ширењ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14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411480" indent="-411480">
              <a:lnSpc>
                <a:spcPct val="90000"/>
              </a:lnSpc>
              <a:spcBef>
                <a:spcPts val="550"/>
              </a:spcBef>
              <a:buClr>
                <a:srgbClr val="66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Помаже у одређивању времена излагањ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14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411480" indent="-411480">
              <a:lnSpc>
                <a:spcPct val="90000"/>
              </a:lnSpc>
              <a:spcBef>
                <a:spcPts val="550"/>
              </a:spcBef>
              <a:buClr>
                <a:srgbClr val="66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Даје идеје о агенсу на основу познавања дужин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1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инкубације и латентног периода болест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14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411480" indent="-411480">
              <a:lnSpc>
                <a:spcPct val="90000"/>
              </a:lnSpc>
              <a:spcBef>
                <a:spcPts val="550"/>
              </a:spcBef>
              <a:buClr>
                <a:srgbClr val="66ff33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Указује на постојање епидемијских талас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14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411480" indent="-411480">
              <a:lnSpc>
                <a:spcPct val="90000"/>
              </a:lnSpc>
              <a:spcBef>
                <a:spcPts val="550"/>
              </a:spcBef>
              <a:buClr>
                <a:srgbClr val="66ff33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Омогућава предвиђање даљег тока епидемиј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1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уцртавањем дела криве који недостаје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148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lvl="1" marL="822960" indent="-411480">
              <a:lnSpc>
                <a:spcPct val="90000"/>
              </a:lnSpc>
              <a:spcBef>
                <a:spcPts val="550"/>
              </a:spcBef>
              <a:buClr>
                <a:srgbClr val="66ff33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3399"/>
                </a:solidFill>
                <a:latin typeface="Arial"/>
              </a:rPr>
              <a:t>↑</a:t>
            </a:r>
            <a:r>
              <a:rPr b="0" lang="sr-CS" sz="2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узлазна путања: бр. оболелих ће се повећавати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22960" indent="-411480">
              <a:lnSpc>
                <a:spcPct val="90000"/>
              </a:lnSpc>
              <a:spcBef>
                <a:spcPts val="550"/>
              </a:spcBef>
              <a:buClr>
                <a:srgbClr val="66ff33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00"/>
                </a:solidFill>
                <a:latin typeface="Arial"/>
              </a:rPr>
              <a:t>↓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низлазна путања: епидемија јењав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344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411480" indent="-411480">
              <a:lnSpc>
                <a:spcPct val="90000"/>
              </a:lnSpc>
              <a:spcBef>
                <a:spcPts val="550"/>
              </a:spcBef>
              <a:buClr>
                <a:srgbClr val="66ff33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Може да објасни механизам настанка епидемиј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1905120" y="1125360"/>
            <a:ext cx="5333760" cy="2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00160" y="712800"/>
            <a:ext cx="894384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Епидемијска крива</a:t>
            </a:r>
            <a:br>
              <a:rPr sz="3200"/>
            </a:b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Оријентацију о извору и путу ширењ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9440" y="2155320"/>
            <a:ext cx="82263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На 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основу њеног изгледа постоји подела епидемија на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49"/>
              </a:spcBef>
              <a:buClr>
                <a:srgbClr val="66ff33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Епидемије заједничког извор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49"/>
              </a:spcBef>
              <a:buClr>
                <a:srgbClr val="66ff33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Прогресивне или пропагирајуће епидемиј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49"/>
              </a:spcBef>
              <a:buClr>
                <a:srgbClr val="66ff33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Епидемије мешаног тип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65160" y="1722600"/>
            <a:ext cx="53341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0080" y="514080"/>
            <a:ext cx="895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Оријентаци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о извору и путу ширења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ЕПИДЕМИЈЕ ЗАЈЕДНИЧКОГ ИЗВОРА</a:t>
            </a:r>
            <a:br>
              <a:rPr sz="2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9400" y="180036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Сви оболели дошли су у контакт са истим извором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заразе (за биолошке агенсе), односно извором болести (за физичке и хемијске агенс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5800" indent="-415800">
              <a:spcBef>
                <a:spcPts val="55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Епидемије </a:t>
            </a:r>
            <a:r>
              <a:rPr b="0" lang="sr-Latn-CS" sz="2400" spc="-1" strike="noStrike" u="sng">
                <a:solidFill>
                  <a:srgbClr val="ffff00"/>
                </a:solidFill>
                <a:uFillTx/>
                <a:latin typeface="Arial"/>
              </a:rPr>
              <a:t>краткотрајног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извора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66ff33"/>
                </a:solidFill>
                <a:latin typeface="Arial"/>
              </a:rPr>
              <a:t>-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ако је експозициј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краткотрајна (сви оболели изложени истовремено)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епидемија ће се одиграти у интервалу измеђ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минималне и максималне инкубације (слика 1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580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415800" indent="-415800"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Епидемије </a:t>
            </a:r>
            <a:r>
              <a:rPr b="0" lang="sr-Latn-CS" sz="2400" spc="-1" strike="noStrike" u="sng">
                <a:solidFill>
                  <a:srgbClr val="ffff00"/>
                </a:solidFill>
                <a:uFillTx/>
                <a:latin typeface="Arial"/>
              </a:rPr>
              <a:t>сталног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извора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епидемиј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повременог извора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66ff33"/>
                </a:solidFill>
                <a:latin typeface="Arial"/>
              </a:rPr>
              <a:t>-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појединачни или груписани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случајеви током релативно дужег периода н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епидемијској криви (слика 2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5120" y="1125360"/>
            <a:ext cx="5333760" cy="2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80960" y="552240"/>
            <a:ext cx="82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Епидемије краткотрајног извора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  </a:t>
            </a:r>
            <a:br>
              <a:rPr sz="2400"/>
            </a:b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Епидемија ентероколитис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зазвана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ентероинвазивном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E. Coli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(М.Чобељић, 1985)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03200" y="1932120"/>
            <a:ext cx="8226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2440" y="6188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Епидемије сталног извора или епидемије повременог извора</a:t>
            </a:r>
            <a:r>
              <a:rPr b="0" lang="sr-CS" sz="2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Епидемија нозокомијалне легионелозе</a:t>
            </a:r>
            <a:r>
              <a:rPr b="0" lang="sr-CS" sz="2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(P. Astagneau, 1998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68360" y="1986120"/>
            <a:ext cx="8226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09480" indent="-6094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ff33"/>
                </a:solidFill>
                <a:latin typeface="Arial"/>
              </a:rPr>
              <a:t>Оријентациј</a:t>
            </a: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a</a:t>
            </a:r>
            <a:r>
              <a:rPr b="1" lang="sr-CS" sz="2800" spc="-1" strike="noStrike">
                <a:solidFill>
                  <a:srgbClr val="ccff33"/>
                </a:solidFill>
                <a:latin typeface="Arial"/>
              </a:rPr>
              <a:t> о извору и путу ширења</a:t>
            </a:r>
            <a:br>
              <a:rPr sz="2000"/>
            </a:br>
            <a:r>
              <a:rPr b="1" lang="sr-Latn-CS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66ff33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ПРОГРЕСИВНЕ ИЛИ ПРОПАГИРАЈУЋ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ЕПИДЕМ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Болест се са инфицираних преноси на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осетљиве особе различитим путевима ширењ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За разлику од претходних, могу се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јавити само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код заразних болест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905120" y="1125360"/>
            <a:ext cx="5333760" cy="2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09480" indent="-6094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ff33"/>
                </a:solidFill>
                <a:latin typeface="Arial"/>
              </a:rPr>
              <a:t>Оријентациј</a:t>
            </a: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a</a:t>
            </a:r>
            <a:r>
              <a:rPr b="1" lang="sr-CS" sz="2800" spc="-1" strike="noStrike">
                <a:solidFill>
                  <a:srgbClr val="ccff33"/>
                </a:solidFill>
                <a:latin typeface="Arial"/>
              </a:rPr>
              <a:t> о извору и путу ширења</a:t>
            </a:r>
            <a:br>
              <a:rPr sz="2000"/>
            </a:br>
            <a:r>
              <a:rPr b="1" lang="sr-Latn-CS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66ff33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ЕПИДЕМИЈЕ МЕШАНОГ ТИП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На почетку имају карактеристике епидемиј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заједничког извора, а затим услед преношењ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болести са инфицираних на осетљиве особ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добијају продужени ток (</a:t>
            </a:r>
            <a:r>
              <a:rPr b="0" lang="sr-Latn-CS" sz="2400" spc="-1" strike="noStrike">
                <a:solidFill>
                  <a:srgbClr val="66ff33"/>
                </a:solidFill>
                <a:latin typeface="Arial"/>
              </a:rPr>
              <a:t>"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контактни реп</a:t>
            </a:r>
            <a:r>
              <a:rPr b="0" lang="sr-Latn-CS" sz="2400" spc="-1" strike="noStrike">
                <a:solidFill>
                  <a:srgbClr val="66ff33"/>
                </a:solidFill>
                <a:latin typeface="Arial"/>
              </a:rPr>
              <a:t>"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Особе које су заражене услед излагања заједничк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извору представљају примарне случајев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Заражавање тзв. секунд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н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их </a:t>
            </a:r>
            <a:r>
              <a:rPr b="0" lang="pl-PL" sz="2400" spc="-1" strike="noStrike">
                <a:solidFill>
                  <a:srgbClr val="66ff33"/>
                </a:solidFill>
                <a:latin typeface="Arial"/>
              </a:rPr>
              <a:t>"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случајева</a:t>
            </a:r>
            <a:r>
              <a:rPr b="0" lang="pl-PL" sz="2400" spc="-1" strike="noStrike">
                <a:solidFill>
                  <a:srgbClr val="66ff33"/>
                </a:solidFill>
                <a:latin typeface="Arial"/>
              </a:rPr>
              <a:t>"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настај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услед преношења агенса са једне особе на друг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1905120" y="1125360"/>
            <a:ext cx="5333760" cy="2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244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Епидемије </a:t>
            </a:r>
            <a:r>
              <a:rPr b="1" lang="sr-CS" sz="2800" spc="-1" strike="noStrike">
                <a:solidFill>
                  <a:srgbClr val="ff3300"/>
                </a:solidFill>
                <a:latin typeface="Arial"/>
              </a:rPr>
              <a:t>мешаног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типа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Алиментарна епидемија ентероколитиса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новорођенчад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ГЗЗЗ, 1995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41520" y="2332080"/>
            <a:ext cx="802764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80600" y="9234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09480" indent="-6094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ff33"/>
                </a:solidFill>
                <a:latin typeface="Arial"/>
              </a:rPr>
              <a:t>Епидемијска крива </a:t>
            </a:r>
            <a:r>
              <a:rPr b="1" lang="sr-CS" sz="2800" spc="-1" strike="noStrike">
                <a:solidFill>
                  <a:srgbClr val="ccff33"/>
                </a:solidFill>
                <a:latin typeface="Arial"/>
              </a:rPr>
              <a:t>помаже </a:t>
            </a:r>
            <a:r>
              <a:rPr b="1" lang="ru-RU" sz="2800" spc="-1" strike="noStrike">
                <a:solidFill>
                  <a:srgbClr val="ccff33"/>
                </a:solidFill>
                <a:latin typeface="Arial"/>
              </a:rPr>
              <a:t>у одређивању времена излагања </a:t>
            </a:r>
            <a:br>
              <a:rPr sz="2000"/>
            </a:br>
            <a:r>
              <a:rPr b="1" lang="sr-Latn-CS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95160" y="2450880"/>
            <a:ext cx="766944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66ff33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 врха криве одузме се просеч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кубација и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66ff33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 првог случаја се одузме најкраћа, а о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ледњег најдужа инкубац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3098880" y="1735200"/>
            <a:ext cx="533376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4560" y="56628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Одређивање времена експозициј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у епидемији рубеле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на основу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просечне инкубациј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 дан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(JL Kelsey, 199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430200" y="2117880"/>
            <a:ext cx="8226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1200" y="2447640"/>
            <a:ext cx="82263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Шема истраживања епидемије</a:t>
            </a:r>
            <a:br>
              <a:rPr sz="3600"/>
            </a:br>
            <a:r>
              <a:rPr b="0" lang="sr-CS" sz="3600" spc="-1" strike="noStrike">
                <a:solidFill>
                  <a:srgbClr val="ffff00"/>
                </a:solidFill>
                <a:latin typeface="Arial"/>
              </a:rPr>
              <a:t>(по</a:t>
            </a:r>
            <a:r>
              <a:rPr b="0" i="1" lang="sr-C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sr-Latn-CS" sz="3600" spc="-1" strike="noStrike">
                <a:solidFill>
                  <a:srgbClr val="ffff00"/>
                </a:solidFill>
                <a:latin typeface="Arial"/>
              </a:rPr>
              <a:t>Gordisu</a:t>
            </a:r>
            <a:r>
              <a:rPr b="0" i="1" lang="sr-CS" sz="36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sr-CS" sz="3600" spc="-1" strike="noStrike">
                <a:solidFill>
                  <a:srgbClr val="ffff00"/>
                </a:solidFill>
                <a:latin typeface="Arial"/>
              </a:rPr>
              <a:t> 2000)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, додатна објашњења</a:t>
            </a:r>
            <a:r>
              <a:rPr b="0" lang="sr-CS" sz="36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sr-CS" sz="3600" spc="-1" strike="noStrike">
                <a:solidFill>
                  <a:srgbClr val="ffff00"/>
                </a:solidFill>
                <a:latin typeface="Arial"/>
              </a:rPr>
              <a:t>Радовановић</a:t>
            </a:r>
            <a:r>
              <a:rPr b="0" lang="sr-CS" sz="3600" spc="-1" strike="noStrike">
                <a:solidFill>
                  <a:srgbClr val="ffff00"/>
                </a:solidFill>
                <a:latin typeface="Arial"/>
              </a:rPr>
              <a:t>, 2000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000" y="593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Одређивање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времена експозициј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у епидемији рубеле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на основу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минималн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4 дан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и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максималн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 да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инкубациј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JL Kelsey, 199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455760" y="1971720"/>
            <a:ext cx="8226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Б. 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РАСПОДЕЛ</a:t>
            </a: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А 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ОБОЛЕЛИХ</a:t>
            </a: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 У ОДНОСУ НА </a:t>
            </a:r>
            <a:r>
              <a:rPr b="1" lang="sr-CS" sz="3200" spc="-1" strike="noStrike" u="sng">
                <a:solidFill>
                  <a:srgbClr val="ffff00"/>
                </a:solidFill>
                <a:uFillTx/>
                <a:latin typeface="Arial"/>
              </a:rPr>
              <a:t>МЕСТ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Топографска обрада података може да да идеју о мест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експозициј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На мапи подручја где се одвија епидемија уцртају се сви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оболели по месту становања, радном месту и сл.  </a:t>
            </a:r>
            <a:r>
              <a:rPr b="0" lang="sr-Latn-CS" sz="2200" spc="-1" strike="noStrike">
                <a:solidFill>
                  <a:srgbClr val="66ff33"/>
                </a:solidFill>
                <a:latin typeface="Arial"/>
              </a:rPr>
              <a:t>→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ccff33"/>
                </a:solidFill>
                <a:latin typeface="Arial"/>
              </a:rPr>
              <a:t>уочити груписање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, што би могло да укаже на извор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и/или пут ширењ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Ако је величина популације различита у подручјима које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поредимо, може да уследи погрешан закључак </a:t>
            </a:r>
            <a:r>
              <a:rPr b="0" lang="sr-Latn-CS" sz="2200" spc="-1" strike="noStrike">
                <a:solidFill>
                  <a:srgbClr val="66ff33"/>
                </a:solidFill>
                <a:latin typeface="Arial"/>
              </a:rPr>
              <a:t>→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ccff33"/>
                </a:solidFill>
                <a:latin typeface="Arial"/>
              </a:rPr>
              <a:t>посматрати "стопу" јављања по подручјим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Код</a:t>
            </a:r>
            <a:r>
              <a:rPr b="0" lang="sr-Latn-CS" sz="2200" spc="-1" strike="noStrike">
                <a:solidFill>
                  <a:srgbClr val="ccff33"/>
                </a:solidFill>
                <a:latin typeface="Arial"/>
              </a:rPr>
              <a:t> болести ниске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учесталости </a:t>
            </a:r>
            <a:r>
              <a:rPr b="0" lang="sr-Latn-CS" sz="2200" spc="-1" strike="noStrike">
                <a:solidFill>
                  <a:srgbClr val="66ff33"/>
                </a:solidFill>
                <a:latin typeface="Arial"/>
              </a:rPr>
              <a:t>→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ccff33"/>
                </a:solidFill>
                <a:latin typeface="Arial"/>
              </a:rPr>
              <a:t>истовремено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ccff33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ccff33"/>
                </a:solidFill>
                <a:latin typeface="Arial"/>
              </a:rPr>
              <a:t>посматрати груписање у времену и простор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575160" y="1298520"/>
            <a:ext cx="5333760" cy="2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5000" y="712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В. 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РАСПОДЕЛ</a:t>
            </a: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А 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ОБОЛЕЛИХ</a:t>
            </a: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 У ОДНОСУ НА </a:t>
            </a:r>
            <a:r>
              <a:rPr b="1" lang="sr-CS" sz="3200" spc="-1" strike="noStrike" u="sng">
                <a:solidFill>
                  <a:srgbClr val="ffff00"/>
                </a:solidFill>
                <a:uFillTx/>
                <a:latin typeface="Arial"/>
              </a:rPr>
              <a:t>КАРАКТЕРИСТИКЕ ОСОБ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2752200"/>
            <a:ext cx="82263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Узраст и пол оболелих се обично прв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анализују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због своје честе повезаности с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експозицијом 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ризиком за настанак боле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1905120" y="1125360"/>
            <a:ext cx="5333760" cy="2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РАСПОДЕЛ</a:t>
            </a: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А 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ОБОЛЕЛИХ</a:t>
            </a: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 У ОДНОСУ НА </a:t>
            </a:r>
            <a:r>
              <a:rPr b="1" lang="sr-CS" sz="3200" spc="-1" strike="noStrike" u="sng">
                <a:solidFill>
                  <a:srgbClr val="ffff00"/>
                </a:solidFill>
                <a:uFillTx/>
                <a:latin typeface="Arial"/>
              </a:rPr>
              <a:t>КАРАКТЕРИСТИКЕ ОСОБ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5400" y="2117880"/>
            <a:ext cx="8226360" cy="43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3300"/>
                </a:solidFill>
                <a:latin typeface="Arial"/>
              </a:rPr>
              <a:t>Пример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: Епидемија дијареје код сасвим мал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дец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оже да укаже на високо контагиозни инфективни агенс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према коме су старија деца створила имуните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(инфекције ротавирусима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ећи број оболелих једног пола у некој епидемији пре је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одраз начина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ивота, обичаја и специфичне изложности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него биолошких разлика међу половим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РАСПОДЕЛ</a:t>
            </a: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А 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ОБОЛЕЛИХ</a:t>
            </a: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 У ОДНОСУ НА </a:t>
            </a:r>
            <a:r>
              <a:rPr b="1" lang="sr-CS" sz="3200" spc="-1" strike="noStrike" u="sng">
                <a:solidFill>
                  <a:srgbClr val="ffff00"/>
                </a:solidFill>
                <a:uFillTx/>
                <a:latin typeface="Arial"/>
              </a:rPr>
              <a:t>КАРАКТЕРИСТИКЕ ОСОБ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82400" y="1760040"/>
            <a:ext cx="82263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Чешће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оболевање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соба одређеног занимањ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у некој епидемији указује на професионалну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експозициј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3300"/>
                </a:solidFill>
                <a:latin typeface="Arial"/>
              </a:rPr>
              <a:t>Пример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Оболевање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пољопривредника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ил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Ловци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у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недавној, првој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епидемији туларемије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Ц.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Србији </a:t>
            </a:r>
            <a:r>
              <a:rPr b="0" lang="sr-Latn-CS" sz="2200" spc="-1" strike="noStrike">
                <a:solidFill>
                  <a:srgbClr val="66ff33"/>
                </a:solidFill>
                <a:latin typeface="Arial"/>
              </a:rPr>
              <a:t>→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до експозиције дошло услед контакта с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зечевим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Етничке и верске разлике, начин живот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водоснабдевање, исхрана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1905120" y="1125360"/>
            <a:ext cx="5333760" cy="2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00"/>
                </a:solidFill>
                <a:latin typeface="Arial"/>
              </a:rPr>
              <a:t>III.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КОМБИНАЦИЈЕ (ИНТЕРАКЦИЈЕ) </a:t>
            </a:r>
            <a:br>
              <a:rPr sz="3600"/>
            </a:br>
            <a:r>
              <a:rPr b="0" lang="sr-C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РЕЛЕВАНТНИХ ВАРИЈАБЛ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2050560"/>
            <a:ext cx="8226360" cy="42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ffff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Прикупљене варијабле</a:t>
            </a:r>
            <a:r>
              <a:rPr b="0" lang="pl-PL" sz="2800" spc="-1" strike="noStrike">
                <a:solidFill>
                  <a:srgbClr val="66ff33"/>
                </a:solidFill>
                <a:latin typeface="Arial"/>
              </a:rPr>
              <a:t> ток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66ff33"/>
                </a:solidFill>
                <a:latin typeface="Arial"/>
              </a:rPr>
              <a:t>истраживања епидемије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не посматра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изолова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ffff00"/>
              </a:buClr>
              <a:buFont typeface="Arial"/>
              <a:buAutoNum type="alphaU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ff33"/>
                </a:solidFill>
                <a:latin typeface="Arial"/>
              </a:rPr>
              <a:t>Увек имати на уму комбиновано деј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66ff33"/>
                </a:solidFill>
                <a:latin typeface="Arial"/>
              </a:rPr>
              <a:t>више варијаб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405160" y="1467000"/>
            <a:ext cx="4333680" cy="16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1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00"/>
                </a:solidFill>
                <a:latin typeface="Arial"/>
              </a:rPr>
              <a:t>IV.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ПОСТАВИТИ ХИПОТЕЗУ</a:t>
            </a:r>
            <a:r>
              <a:rPr b="0" lang="sr-CS" sz="3600" spc="-1" strike="noStrike">
                <a:solidFill>
                  <a:srgbClr val="ffff00"/>
                </a:solidFill>
                <a:latin typeface="Arial"/>
              </a:rPr>
              <a:t> на основ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82400" y="1944720"/>
            <a:ext cx="822636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A.</a:t>
            </a:r>
            <a:r>
              <a:rPr b="0" lang="pl-PL" sz="2800" spc="-1" strike="noStrike">
                <a:solidFill>
                  <a:srgbClr val="66ff33"/>
                </a:solidFill>
                <a:latin typeface="Arial"/>
              </a:rPr>
              <a:t>Постојећег знања (ако га има) 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66ff33"/>
                </a:solidFill>
                <a:latin typeface="Arial"/>
              </a:rPr>
              <a:t>одговарајућој боле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66ff33"/>
                </a:solidFill>
                <a:latin typeface="Arial"/>
              </a:rPr>
              <a:t>Б.</a:t>
            </a:r>
            <a:r>
              <a:rPr b="0" lang="pl-PL" sz="2800" spc="-1" strike="noStrike">
                <a:solidFill>
                  <a:srgbClr val="66ff33"/>
                </a:solidFill>
                <a:latin typeface="Arial"/>
              </a:rPr>
              <a:t>Сличности са болестима познат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66ff33"/>
                </a:solidFill>
                <a:latin typeface="Arial"/>
              </a:rPr>
              <a:t>етиолог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2405160" y="1467000"/>
            <a:ext cx="4333680" cy="16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4600" y="7916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3300"/>
                </a:solidFill>
                <a:latin typeface="Arial"/>
              </a:rPr>
              <a:t>Поставити хипотезу</a:t>
            </a:r>
            <a:br>
              <a:rPr sz="20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82400" y="2475000"/>
            <a:ext cx="8226360" cy="29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Епидемиолог на основу прикупљених податак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поставља хипотезу </a:t>
            </a:r>
            <a:r>
              <a:rPr b="0" lang="pl-PL" sz="2800" spc="-1" strike="noStrike">
                <a:solidFill>
                  <a:srgbClr val="ff3300"/>
                </a:solidFill>
                <a:latin typeface="Arial"/>
              </a:rPr>
              <a:t>о ИЗВОРУ АГЕНСА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(биолошког,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физичког ил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хемијског) </a:t>
            </a:r>
            <a:r>
              <a:rPr b="0" lang="pl-PL" sz="2800" spc="-1" strike="noStrike">
                <a:solidFill>
                  <a:srgbClr val="ff3300"/>
                </a:solidFill>
                <a:latin typeface="Arial"/>
              </a:rPr>
              <a:t>и ПУТУ ШИРЕЊА</a:t>
            </a:r>
            <a:r>
              <a:rPr b="0" lang="sr-CS" sz="2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оја би објаснила зашто је и како до епидемије дошл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1905120" y="1125360"/>
            <a:ext cx="5333760" cy="2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3300"/>
                </a:solidFill>
                <a:latin typeface="Arial"/>
              </a:rPr>
              <a:t>Поставити хипотез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5400" y="1599840"/>
            <a:ext cx="822636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Након разговора са више оболелих, са локалним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здравственим радницима, након анализе дескриптивно-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епидемиолошких података, хипотеза може да се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дограђује или радикално мењ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Када је реч о заразним болестима имати на уму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ff33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ко су могући резервоари те болест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ff33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како се она преноси и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ff33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који су познати фактори ризика за њен настанак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00"/>
                </a:solidFill>
                <a:latin typeface="Arial"/>
              </a:rPr>
              <a:t>V.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ТЕСТИРАТИ ХИПОТЕЗ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47560" y="2235240"/>
            <a:ext cx="8134560" cy="34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ffff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ff33"/>
                </a:solidFill>
                <a:latin typeface="Arial"/>
              </a:rPr>
              <a:t>Детаљније анализовати постојећ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66ff33"/>
                </a:solidFill>
                <a:latin typeface="Arial"/>
              </a:rPr>
              <a:t>подат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ffff00"/>
              </a:buClr>
              <a:buFont typeface="Arial"/>
              <a:buAutoNum type="alphaU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ff33"/>
                </a:solidFill>
                <a:latin typeface="Arial"/>
              </a:rPr>
              <a:t>Прикупити додатне подат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2405160" y="1467000"/>
            <a:ext cx="4333680" cy="16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37680" y="259920"/>
            <a:ext cx="8805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Шема истраживања епидемије</a:t>
            </a:r>
            <a:br>
              <a:rPr sz="2400"/>
            </a:b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(по</a:t>
            </a:r>
            <a:r>
              <a:rPr b="0" i="1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ffff00"/>
                </a:solidFill>
                <a:latin typeface="Arial"/>
              </a:rPr>
              <a:t>Gordisu</a:t>
            </a:r>
            <a:r>
              <a:rPr b="0" i="1" lang="sr-CS" sz="24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2000)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 додатна објашњења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sr-CS" sz="2400" spc="-1" strike="noStrike">
                <a:solidFill>
                  <a:srgbClr val="ffff00"/>
                </a:solidFill>
                <a:latin typeface="Arial"/>
              </a:rPr>
              <a:t>Радовановић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, 2000)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ffff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ефинисати епидемиј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ffff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спитати расподелу оболели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ffff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ратити пажњу на комбинац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интеракције) релевантних варијаб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ffff00"/>
              </a:buClr>
              <a:buFont typeface="Arial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ставити хипотез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ffff00"/>
              </a:buClr>
              <a:buFont typeface="Arial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стирати хипотез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ffff00"/>
              </a:buClr>
              <a:buFont typeface="Arial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едложити мере спречавања и сузбиј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905120" y="1125360"/>
            <a:ext cx="5333760" cy="2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95000" y="8316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3300"/>
                </a:solidFill>
                <a:latin typeface="Arial"/>
              </a:rPr>
              <a:t>Тестирати хипотезу </a:t>
            </a: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на </a:t>
            </a:r>
            <a:r>
              <a:rPr b="0" lang="pl-PL" sz="4000" spc="-1" strike="noStrike">
                <a:solidFill>
                  <a:srgbClr val="66ff33"/>
                </a:solidFill>
                <a:latin typeface="Arial"/>
              </a:rPr>
              <a:t>два начина</a:t>
            </a: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2103120"/>
            <a:ext cx="82263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66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Поређење хипотезе са прикупљени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чињеницам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66ff3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Коришћење аналитичког мет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1905120" y="1125360"/>
            <a:ext cx="5333760" cy="2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01640" y="472680"/>
            <a:ext cx="81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Arial"/>
              </a:rPr>
              <a:t>1.ПОРЕЂЕЊЕ ХИПОТЕЗЕ СА ПРИКУПЉЕНИМ ЧИЊЕНИЦАМА</a:t>
            </a:r>
            <a:br>
              <a:rPr sz="3200"/>
            </a:br>
            <a:r>
              <a:rPr b="0" lang="sr-CS" sz="3200" spc="-1" strike="noStrike">
                <a:solidFill>
                  <a:srgbClr val="ffff00"/>
                </a:solidFill>
                <a:latin typeface="Arial"/>
              </a:rPr>
              <a:t>у циљу разјашњавања епидемиј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53760" y="1706040"/>
            <a:ext cx="8226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ffff"/>
                </a:solidFill>
                <a:uFillTx/>
                <a:latin typeface="Arial"/>
              </a:rPr>
              <a:t>"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С</a:t>
            </a:r>
            <a:r>
              <a:rPr b="1" lang="sr-Latn-CS" sz="3200" spc="-1" strike="noStrike" u="sng">
                <a:solidFill>
                  <a:srgbClr val="ffffff"/>
                </a:solidFill>
                <a:uFillTx/>
                <a:latin typeface="Arial"/>
              </a:rPr>
              <a:t>ериј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а</a:t>
            </a:r>
            <a:r>
              <a:rPr b="1" lang="sr-Latn-CS" sz="3200" spc="-1" strike="noStrike" u="sng">
                <a:solidFill>
                  <a:srgbClr val="ffffff"/>
                </a:solidFill>
                <a:uFillTx/>
                <a:latin typeface="Arial"/>
              </a:rPr>
              <a:t> случајева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Лекар прикупи податке о свим оболелим 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епидемиј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на основу њихове изложености покуша да објас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како је до епидемије дош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ради се о тзв. "серији случајева", тј. "сериј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болесника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Овај приступ може бити довољан, нарочито ако ј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изложеност неуобичаје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Arial"/>
              </a:rPr>
              <a:t>Пример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: Епидемије интоксикације витамином 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запажено је да су сви оболели пили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витаминизирано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млеко са исте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фарм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01400" y="593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Arial"/>
              </a:rPr>
              <a:t>ПОРЕЂЕЊЕ ХИПОТЕЗЕ СА </a:t>
            </a:r>
            <a:br>
              <a:rPr sz="3200"/>
            </a:br>
            <a:r>
              <a:rPr b="0" lang="sr-CS" sz="3200" spc="-1" strike="noStrike">
                <a:solidFill>
                  <a:srgbClr val="ffff00"/>
                </a:solidFill>
                <a:latin typeface="Arial"/>
              </a:rPr>
              <a:t>ПРИКУПЉЕНИМ ЧИЊЕНИЦАМА у циљу разјашњавања епидемиј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5400" y="2013120"/>
            <a:ext cx="822636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66ff33"/>
                </a:solidFill>
                <a:uFillTx/>
                <a:latin typeface="Arial"/>
              </a:rPr>
              <a:t>СТУДИЈЕ ПРЕСЕКА</a:t>
            </a:r>
            <a:r>
              <a:rPr b="1" lang="pl-PL" sz="2800" spc="-1" strike="noStrike" u="sng">
                <a:solidFill>
                  <a:srgbClr val="ffffff"/>
                </a:solidFill>
                <a:uFillTx/>
                <a:latin typeface="Arial"/>
              </a:rPr>
              <a:t> тј. преваленције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 з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разјашњавање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епидем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тролне групе здравих и оболелих 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ецизирању места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ута преношењ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нфекциј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Контролну групу здравих чине особе из колектива 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коме се епидемија јавила, а које су остале здрав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јер нису биле изложене агенс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Контролну групу оболелих чине особе кој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неприпадају колективу у коме се епидемија јавил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али су оболеле јер су биле изложене агенс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6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2. КОРИШЋЕЊЕ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АНАЛИТИЧКОГ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МЕТОДА ЗА РАЗЈАШЊАВАЊЕ ЕПИДЕМ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88600" y="1800360"/>
            <a:ext cx="822636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да наведени методски приступ није довољан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јашњавање епидемије користе се 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Arial"/>
              </a:rPr>
              <a:t>КОХОРТНЕ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66ff33"/>
                </a:solidFill>
                <a:uFillTx/>
                <a:latin typeface="Arial"/>
              </a:rPr>
              <a:t>	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АНАМНЕСТИЧКЕ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студ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 кохортним студијама подела испитаника у груп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снива се на изложености суспектном фактор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изика (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група изложени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група неизложени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пидемија се већ десила, 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ретроспективног је тип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ристи се при анализи епидемија насталих 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у деф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популациј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КОРИШЋЕЊЕ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АНАЛИТИЧКОГ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МЕТОДА ЗА РАЗЈАШЊАВАЊЕ ЕПИДЕМ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82400" y="1969560"/>
            <a:ext cx="82263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ХОРТНЕ СТУД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Пример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Епидемије гастроентеритиса међ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ваницама на свадбеном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учку, када је лист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остију доступ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ве званице питане шта су јеле и да ли с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олеле или 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КОРИШЋЕЊЕ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АНАЛИТИЧКОГ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МЕТОДА ЗА РАЗЈАШЊАВАЊЕ ЕПИДЕМ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5400" y="190512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НАМНЕСТИЧКА СТУД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да не постоје подаци о изложеној популацији (к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је све у одређеном ресторану наручио хамбургер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 које се сумња да су довели до дијареје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итања о конзумирању хамбургера постављају с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олесницима са дијарејом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рупа оболели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поредивој групи грађана која нем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астроинтестиналне сметње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нтролна груп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РЕДЕФИНИСАТИ ХИПОТЕЗУ И ПРИКУПИТИ 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НОВЕ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 П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ОДАТ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15800" y="1599840"/>
            <a:ext cx="826632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Када аналитичке студије не могу да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потврд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постављену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хипотезу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Пример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Епидемије коју је изазвала Salmonell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enchen у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САД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Анамнестичком студијом није могла бити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потврђен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хипотеза о храни као извор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Обзиром да су чешће оболевале младе особе, урађено је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додатно интервјуисање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пажња је обраћена на могућ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изложеност младих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Друга анамнестичка студија је указала да се узрочник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ширио путем марихуан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100440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00"/>
                </a:solidFill>
                <a:latin typeface="Arial"/>
              </a:rPr>
              <a:t>VI.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ПРЕДЛО</a:t>
            </a:r>
            <a:r>
              <a:rPr b="0" lang="sr-Latn-CS" sz="3600" spc="-1" strike="noStrike">
                <a:solidFill>
                  <a:srgbClr val="ffff00"/>
                </a:solidFill>
                <a:latin typeface="Arial"/>
              </a:rPr>
              <a:t>Ж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ИТИ МЕРЕ СПРЕ</a:t>
            </a:r>
            <a:r>
              <a:rPr b="0" lang="sr-Latn-CS" sz="36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АВАЊА И СУЗБИЈАЊА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5400" y="197172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66ff33"/>
                </a:solidFill>
                <a:latin typeface="Arial"/>
              </a:rPr>
              <a:t>А.</a:t>
            </a:r>
            <a:r>
              <a:rPr b="0" lang="sr-Latn-CS" sz="3200" spc="-1" strike="noStrike">
                <a:solidFill>
                  <a:srgbClr val="66ff33"/>
                </a:solidFill>
                <a:latin typeface="Arial"/>
              </a:rPr>
              <a:t>Сузбијање постојеће епидем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66ff33"/>
                </a:solidFill>
                <a:latin typeface="Arial"/>
              </a:rPr>
              <a:t>Б.</a:t>
            </a:r>
            <a:r>
              <a:rPr b="0" lang="sr-Latn-CS" sz="3200" spc="-1" strike="noStrike">
                <a:solidFill>
                  <a:srgbClr val="66ff33"/>
                </a:solidFill>
                <a:latin typeface="Arial"/>
              </a:rPr>
              <a:t>Спречавања будућих сличних епидем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2405160" y="1467000"/>
            <a:ext cx="4333680" cy="16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09480" indent="-60948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узбијање постојеће епидемије</a:t>
            </a:r>
            <a:br>
              <a:rPr sz="2800"/>
            </a:br>
            <a:r>
              <a:rPr b="0" lang="sr-C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Предузети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што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је могу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е раније,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им су пут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ирења и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извор познати или се барем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наслућуј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Пример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мер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сузбијањ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уништавање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контаминиране хране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хлорисање воде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дезинсекција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удаљавање оболелог који ради у припреми хране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довешће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до прекида даљег тока епидемије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905120" y="1125360"/>
            <a:ext cx="5333760" cy="2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00280" y="274320"/>
            <a:ext cx="788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Сузбијање постојеће епидемије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8000" y="203832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Прве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мере сузбијања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се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базирају на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ограниченим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почетним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информацијама (док јо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нису довољно познати етиологија болести и извор) и могу у даљем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истраживању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епидемије бити модификован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41320" y="1082160"/>
            <a:ext cx="7840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Шема истраживања епидемиј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09440" y="2871360"/>
            <a:ext cx="735300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00"/>
                </a:solidFill>
                <a:latin typeface="Arial"/>
              </a:rPr>
              <a:t>ДЕФИНИСАТИ ЕПИДЕМИЈ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400" y="4996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Сузбијање постојеће епидемије</a:t>
            </a:r>
            <a:r>
              <a:rPr b="0" lang="sr-Latn-CS" sz="32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66360" y="2222640"/>
            <a:ext cx="76978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-434160">
              <a:spcBef>
                <a:spcPts val="601"/>
              </a:spcBef>
              <a:buClr>
                <a:srgbClr val="ccff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Ургентност примене мера сузбијања одређуј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8680" indent="-43416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тежина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8680" indent="-43416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33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епидемијски потенцијал боле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ccff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Тежина обољења</a:t>
            </a:r>
            <a:r>
              <a:rPr b="0" lang="sr-Latn-CS" sz="2400" spc="-1" strike="noStrike">
                <a:solidFill>
                  <a:srgbClr val="ccff33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6600"/>
                </a:solidFill>
                <a:latin typeface="Arial"/>
              </a:rPr>
              <a:t>→</a:t>
            </a:r>
            <a:r>
              <a:rPr b="0" lang="sr-Latn-CS" sz="2400" spc="-1" strike="noStrike">
                <a:solidFill>
                  <a:srgbClr val="ccff33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степен компликација и смртн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исход, дужину болести, неопходност лечења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хоспитализац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4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1905120" y="1125360"/>
            <a:ext cx="5333760" cy="2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Сузбијање постојеће епидем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53760" y="2332080"/>
            <a:ext cx="7816680" cy="36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У епидемијама обољења код којих постоји висок ризик од умирања и које се шире експлозивно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00"/>
                </a:solidFill>
                <a:latin typeface="Arial"/>
              </a:rPr>
              <a:t>одмах применити мере које у том тренутку изгледају најоправданиј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00"/>
                </a:solidFill>
                <a:latin typeface="Arial"/>
              </a:rPr>
              <a:t>кориговати мере у зависности од информација </a:t>
            </a:r>
            <a:r>
              <a:rPr b="0" lang="sr-CS" sz="2600" spc="-1" strike="noStrike">
                <a:solidFill>
                  <a:srgbClr val="ffff00"/>
                </a:solidFill>
                <a:latin typeface="Arial"/>
              </a:rPr>
              <a:t>п</a:t>
            </a:r>
            <a:r>
              <a:rPr b="0" lang="sr-Latn-CS" sz="2600" spc="-1" strike="noStrike">
                <a:solidFill>
                  <a:srgbClr val="ffff00"/>
                </a:solidFill>
                <a:latin typeface="Arial"/>
              </a:rPr>
              <a:t>рикупљених у наставку истраживањ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едложити мере спречавања и сузбијања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5400" y="181296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ојава беснила у хуманој популацији или тровањ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храном у колективу захтевају примену ургентни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м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Угрожена популација мора бити информисана 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епидемији и предузетим мерама зашти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страживање епидемије и предузимањ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ротивепидемијских мера су идеална прилика да се нова сазнања искористе за превентивне, односн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мере спречавањ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1905120" y="1125360"/>
            <a:ext cx="5333760" cy="2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Arial"/>
              </a:rPr>
              <a:t>Б.</a:t>
            </a:r>
            <a:r>
              <a:rPr b="1" lang="sr-Latn-CS" sz="3600" spc="-1" strike="noStrike">
                <a:solidFill>
                  <a:srgbClr val="ffff00"/>
                </a:solidFill>
                <a:latin typeface="Arial"/>
              </a:rPr>
              <a:t>Спречавањ</a:t>
            </a:r>
            <a:r>
              <a:rPr b="1" lang="sr-CS" sz="3600" spc="-1" strike="noStrike">
                <a:solidFill>
                  <a:srgbClr val="ffff00"/>
                </a:solidFill>
                <a:latin typeface="Arial"/>
              </a:rPr>
              <a:t>е</a:t>
            </a:r>
            <a:r>
              <a:rPr b="1" lang="sr-Latn-CS" sz="3600" spc="-1" strike="noStrike">
                <a:solidFill>
                  <a:srgbClr val="ffff00"/>
                </a:solidFill>
                <a:latin typeface="Arial"/>
              </a:rPr>
              <a:t> будућих сличних епидемиј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68000" y="1798560"/>
            <a:ext cx="822636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акон епидемије,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00"/>
                </a:solidFill>
                <a:latin typeface="Arial"/>
              </a:rPr>
              <a:t>популациј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је мотивисана </a:t>
            </a:r>
            <a:r>
              <a:rPr b="0" lang="sr-CS" sz="3200" spc="-1" strike="noStrike">
                <a:solidFill>
                  <a:srgbClr val="ff3300"/>
                </a:solidFill>
                <a:latin typeface="Arial"/>
              </a:rPr>
              <a:t>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sr-CS" sz="4000" spc="-1" strike="noStrike">
                <a:solidFill>
                  <a:srgbClr val="ff3300"/>
                </a:solidFill>
                <a:latin typeface="Arial"/>
              </a:rPr>
              <a:t>прихвати савет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, 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00"/>
                </a:solidFill>
                <a:latin typeface="Arial"/>
              </a:rPr>
              <a:t>друштвена заједниц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3300"/>
                </a:solidFill>
                <a:latin typeface="Arial"/>
              </a:rPr>
              <a:t>д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sr-CS" sz="4000" spc="-1" strike="noStrike">
                <a:solidFill>
                  <a:srgbClr val="ff3300"/>
                </a:solidFill>
                <a:latin typeface="Arial"/>
              </a:rPr>
              <a:t>инвестира средств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шт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едставља 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основу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за спречавањ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будућих епидем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1905120" y="1125360"/>
            <a:ext cx="5333760" cy="2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2840" y="433440"/>
            <a:ext cx="826596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sr-CS" sz="32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00"/>
                </a:solidFill>
                <a:latin typeface="Arial"/>
              </a:rPr>
              <a:t>ДЕФИНИСАТИ ЕПИДЕМИЈУ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5400" y="1347480"/>
            <a:ext cx="822636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ffff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66ff33"/>
                </a:solidFill>
                <a:latin typeface="Arial"/>
              </a:rPr>
              <a:t>Дефинисати бројилац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случајев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2388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клиничке одлике: да ли је болест познат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2388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шта показују лабораторијски подац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2388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да ли су узроци бар делимично познат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ffff00"/>
              </a:buClr>
              <a:buFont typeface="Arial"/>
              <a:buAutoNum type="alphaU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66ff33"/>
                </a:solidFill>
                <a:latin typeface="Arial"/>
              </a:rPr>
              <a:t>Дефинисати именилац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: која је популац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изложена ризику оболевањ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ffff00"/>
              </a:buClr>
              <a:buFont typeface="Arial"/>
              <a:buAutoNum type="alphaU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66ff33"/>
                </a:solidFill>
                <a:latin typeface="Arial"/>
              </a:rPr>
              <a:t>Израчунати стопе јављањ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2405160" y="1467000"/>
            <a:ext cx="4333680" cy="16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11360" indent="-711360"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00"/>
                </a:solidFill>
                <a:latin typeface="Arial"/>
              </a:rPr>
              <a:t>ДЕФИНИСАТИ ЕПИДЕМИЈУ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1/2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41000" y="1452600"/>
            <a:ext cx="845172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Arial"/>
              </a:rPr>
              <a:t>Утврдити</a:t>
            </a:r>
            <a:r>
              <a:rPr b="0" lang="sr-Latn-C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4000" spc="-1" strike="noStrike">
                <a:solidFill>
                  <a:srgbClr val="ccff33"/>
                </a:solidFill>
                <a:latin typeface="Arial"/>
              </a:rPr>
              <a:t>д</a:t>
            </a:r>
            <a:r>
              <a:rPr b="0" lang="sr-Latn-CS" sz="4000" spc="-1" strike="noStrike">
                <a:solidFill>
                  <a:srgbClr val="ccff33"/>
                </a:solidFill>
                <a:latin typeface="Arial"/>
              </a:rPr>
              <a:t>а ли се</a:t>
            </a:r>
            <a:r>
              <a:rPr b="0" lang="en-US" sz="4000" spc="-1" strike="noStrike">
                <a:solidFill>
                  <a:srgbClr val="ccff33"/>
                </a:solidFill>
                <a:latin typeface="Arial"/>
              </a:rPr>
              <a:t> заиста ради о епидемији</a:t>
            </a:r>
            <a:r>
              <a:rPr b="0" lang="sr-Latn-CS" sz="4000" spc="-1" strike="noStrike">
                <a:solidFill>
                  <a:srgbClr val="ffffff"/>
                </a:solidFill>
                <a:latin typeface="Arial"/>
              </a:rPr>
              <a:t> тј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а ли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учесталост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те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болести превазилази њену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уобичајену</a:t>
            </a:r>
            <a:r>
              <a:rPr b="0" lang="en-US" sz="4000" spc="-1" strike="noStrike">
                <a:solidFill>
                  <a:srgbClr val="ccff33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учесталост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у одређеној популацији з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дати временски период</a:t>
            </a:r>
            <a:r>
              <a:rPr b="0" lang="en-US" sz="4000" spc="-1" strike="noStrike">
                <a:solidFill>
                  <a:srgbClr val="66ff33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905120" y="1125360"/>
            <a:ext cx="5333760" cy="2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2600" y="274320"/>
            <a:ext cx="867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. </a:t>
            </a:r>
            <a:r>
              <a:rPr b="0" lang="sr-CS" sz="4000" spc="-1" strike="noStrike">
                <a:solidFill>
                  <a:srgbClr val="ffff00"/>
                </a:solidFill>
                <a:latin typeface="Arial"/>
              </a:rPr>
              <a:t>ДЕФИНИСАТИ ЕПИДЕМИЈУ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/2</a:t>
            </a:r>
            <a:r>
              <a:rPr b="0" lang="sr-CS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Пореди се тренутни број оболелих са број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оболелих у претходном периoду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недeља, мeсeц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ли гoди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Пораст броја оболелих артефак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настао</a:t>
            </a:r>
            <a:r>
              <a:rPr b="0" lang="sr-Latn-CS" sz="2400" spc="-1" strike="noStrike">
                <a:solidFill>
                  <a:srgbClr val="66ff33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због п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омена у начину пријављивања болести (пораста интересовања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за неко обољење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словљен истраживањем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те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оле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aрљив клиничaр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који педантно пријављује обољењ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и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оменом у дијaгностиц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аснована је на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клиничким,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лабораторијским и епидемиолошким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карактеристикам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Постављена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на основу клиничког налаза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(симптома и знакова болести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Потврђује се стандардним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лабораторијски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техникама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као што су серолошке реакције и/или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идентификација агенс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Ако се лабораторијски налази не слажу са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клиничким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потребна је њихова провер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Није препоручљиво да се у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истраживању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епидемиј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користе нове лабораторијске техник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905120" y="1125360"/>
            <a:ext cx="5333760" cy="219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917640" y="196920"/>
            <a:ext cx="70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ccff33"/>
                </a:solidFill>
                <a:latin typeface="Arial"/>
              </a:rPr>
              <a:t>Дијагноза боле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16:43:41Z</dcterms:created>
  <dc:creator>User</dc:creator>
  <dc:description/>
  <dc:language>en-US</dc:language>
  <cp:lastModifiedBy> </cp:lastModifiedBy>
  <dcterms:modified xsi:type="dcterms:W3CDTF">2015-09-10T10:35:19Z</dcterms:modified>
  <cp:revision>181</cp:revision>
  <dc:subject/>
  <dc:title>Slide 1</dc:title>
</cp:coreProperties>
</file>